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DD233-5E45-4429-965F-15C6D0FE0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BAA4B-E185-4A74-8591-F752BACFF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0E9D6-140F-48DF-BFA5-8F07F82A3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AD641-AF8A-47EE-A5A0-58D8E116C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7F5A3-026B-4741-B244-0039773D0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E0BE3-F502-47F9-B097-46DEB65C5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05A30-B91C-4607-A28E-3A207530C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BB4F8-2C6B-4E69-B90A-3BB185DC8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A69B1-44F5-4154-B8C1-36ACC471B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41380-0ADF-4E2A-A95E-7C5291233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57E41-E07D-4FE8-9CEF-53C544FA8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3FF7E-1128-41A9-AA20-6CA9E10F0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EA108-BC71-4FD1-8AFC-AA2D74EA911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3" descr=""/>
          <p:cNvPicPr/>
          <p:nvPr/>
        </p:nvPicPr>
        <p:blipFill>
          <a:blip r:embed="rId1"/>
          <a:stretch/>
        </p:blipFill>
        <p:spPr>
          <a:xfrm>
            <a:off x="0" y="11160"/>
            <a:ext cx="9144000" cy="68342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76320" y="155520"/>
            <a:ext cx="8839080" cy="56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Language Poi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动词</a:t>
            </a:r>
            <a:r>
              <a:rPr b="1" i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-ing</a:t>
            </a:r>
            <a:r>
              <a:rPr b="1" i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形式用作状语时，其逻辑主语一般应与句子的主语一致。例如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c99"/>
                </a:solidFill>
                <a:latin typeface="Times New Roman"/>
              </a:rPr>
              <a:t>Living in the country, we had few amuseme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c99"/>
                </a:solidFill>
                <a:latin typeface="Times New Roman"/>
              </a:rPr>
              <a:t>Being unable to help in any other way, I gave her some mone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c99"/>
                </a:solidFill>
                <a:latin typeface="Times New Roman"/>
              </a:rPr>
              <a:t>e.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_____________________________,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(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从山上看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)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we can see as far as the se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_____________________________,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我已经失望两次了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) I decided to work much harder than befor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80880" y="4114800"/>
            <a:ext cx="449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Seeing on the top of the h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5195880"/>
            <a:ext cx="541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Having disappointed myself tw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08T23:56:46Z</dcterms:created>
  <dc:creator>user</dc:creator>
  <dc:description/>
  <dc:language>en-US</dc:language>
  <cp:lastModifiedBy>user</cp:lastModifiedBy>
  <dcterms:modified xsi:type="dcterms:W3CDTF">2003-08-09T00:04:42Z</dcterms:modified>
  <cp:revision>2</cp:revision>
  <dc:subject/>
  <dc:title>PowerPoint 演示文稿</dc:title>
</cp:coreProperties>
</file>